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40840-1802-4875-BFAA-0D123DB3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9F8B7-3434-41FC-8D02-5180C4122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5ADB4-309C-4C26-A188-1A44107AA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C927-11E0-4C76-863F-1B046E7D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AF28-53E3-44A5-99E1-AC16CA7A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1687F-100C-4D19-9FC6-7C40FDCC6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C9C3-0C83-4D85-8C20-00C5B47E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C204B-1C64-4BCF-8097-B25246E3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462E-697D-43F7-B029-F6614CF8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EC0B-995A-4967-94A1-39F78C25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9A44-9457-4181-AC3B-4917AD1B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3EC3A-5526-4A0A-925A-E09CCCD4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4EAC-2A3D-44B1-B8C6-93CAF9AF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EB9E-8C1F-40A7-964E-97383612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D7A4-ED28-47BD-A93D-D5E5FF65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8846-D701-4617-878C-811987FC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34000"/>
            <a:ext cx="264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EC94-4CED-4AAE-A13E-341EB5E0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5256B-EC4B-4684-BE07-9C04C259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2B379-4CB2-4692-9A12-B2FA30D7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E204-8ED4-4E38-B47E-991B2EDD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7431-ED35-4EEA-ABC3-46DC13A4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5291A-70FE-4E47-8A63-F3071D87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340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ECF51-DF77-4EE4-BF2A-296700B4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34000"/>
            <a:ext cx="822960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3E1A1-3B79-4D44-BE44-0FE6A8A1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8120" y="1488960"/>
            <a:ext cx="8353440" cy="1080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027640" y="6473880"/>
            <a:ext cx="1090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C4EF-1E28-42C5-8E93-48A68951261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95280" y="1436760"/>
            <a:ext cx="8353440" cy="10800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515280" y="6491160"/>
            <a:ext cx="1296720" cy="2127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443640" y="6093000"/>
            <a:ext cx="1447920" cy="3632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8035920" y="5661000"/>
            <a:ext cx="1108080" cy="11970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1811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ftr" idx="3"/>
          </p:nvPr>
        </p:nvSpPr>
        <p:spPr>
          <a:xfrm>
            <a:off x="2340000" y="6244920"/>
            <a:ext cx="25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373040"/>
            <a:ext cx="8028000" cy="5484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237440" y="4797360"/>
            <a:ext cx="1906560" cy="2060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1811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2340000" y="6244920"/>
            <a:ext cx="25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947000" y="6453000"/>
            <a:ext cx="1162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117D-CDC4-4C9F-9D06-709E598358E8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413320" y="6384960"/>
            <a:ext cx="1728720" cy="284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356080" y="5911920"/>
            <a:ext cx="1808280" cy="453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警大簡報範本（標題頁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313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報告人：電算中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標題一（內容頁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第一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第二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標題二（內容頁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第一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第二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標題三（內容頁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第一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第二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5T06:17:12Z</dcterms:created>
  <dc:creator>中央警察大學</dc:creator>
  <dc:description/>
  <dc:language>en-US</dc:language>
  <cp:lastModifiedBy>jsuser</cp:lastModifiedBy>
  <dcterms:modified xsi:type="dcterms:W3CDTF">2009-12-29T01:35:03Z</dcterms:modified>
  <cp:revision>29</cp:revision>
  <dc:subject/>
  <dc:title>警大簡報範本</dc:title>
</cp:coreProperties>
</file>